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A9B-CC0F-4585-9AEB-21C3F0DB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6060-9136-4F26-8A9B-EB2B7128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72AF-8F58-44E0-8DCA-18F38938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176-4D0B-49C1-B887-4968FDAA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46D-4D07-466A-90D9-B48292AA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AC1-575C-4A0E-9DA8-EAEE1800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F7F-3205-4EE2-93EA-F4D587C1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B7A-9658-408E-ACC4-27E0F3B3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DFD6-1F8D-48D6-A7AF-5B36A9ED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916B-9F58-4F4C-8D79-520D0A65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ED8-E399-4CC0-B2BC-A4DFB071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6BC0-C2DF-4881-A125-98B37753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2BA-17CD-4B2D-B739-5CC4D4B0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545F-5C4D-42AD-985F-18A6C106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FAF-809A-4C0C-BD92-F45E29F8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0677-E499-4EAD-96A5-895C7159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D1D-F321-4F70-958D-69DD0AF7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1A7-0112-46C1-86B3-81578920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96B-F11A-4EF4-8C82-3892D817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D710-E175-4EDB-A069-9A686DFA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6A1-B810-4479-98DD-E70962E3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9186-AF2E-437F-92D1-99EDDBB5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7F9F-4B42-415B-BDA9-D27A882A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27C-104C-4EB5-9311-F33DFDBE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D281-CD1F-4D47-B3AE-A3066DC3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160-67D2-4BC4-A5FA-3D516B6D0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8E8D-EFD8-4BC7-8D51-D941EDC6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CE08-E7BF-480D-9E2E-79C56D1B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4666-F6B3-4EC7-BEE9-ED01EFA8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7E8-2C5A-4747-9CA0-8B6C0C45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F80-722C-4999-9B47-96AA8907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658-56FE-4F93-9BD5-C304FE70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D98-AA15-4388-9F24-87657E24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DCD-8BA2-4200-ABE8-FDD5879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9A8-E597-4FA0-AE4A-B93F1652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BE6-BB34-4F3B-9BDB-D5302F47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1D7-3B13-4D83-A43A-EFC5FCB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506-F7C5-4AC9-B773-4C07DAD2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836-8C89-465C-9CE9-D0FC50AA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E6F-D20A-4794-A0BC-EC58AE3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F92-7BEC-438D-859B-A6143B9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4A65-FDFF-4E40-8A0C-580FE737B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resources/tdc02/sci/life/stru/singlecell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Gallery of Cells"/>
          <p:cNvPicPr/>
          <p:nvPr/>
        </p:nvPicPr>
        <p:blipFill>
          <a:blip r:embed="rId1"/>
          <a:stretch/>
        </p:blipFill>
        <p:spPr>
          <a:xfrm>
            <a:off x="990720" y="1447920"/>
            <a:ext cx="74246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cleus – control center of the cell; the central membrane-bound organelle that manages or controls cel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organelles – small, specialized structures with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V. Cell typ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ukary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have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have membrane-boun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ex. people, all animals and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alled “eukaryo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lantcellwall"/>
          <p:cNvPicPr/>
          <p:nvPr/>
        </p:nvPicPr>
        <p:blipFill>
          <a:blip r:embed="rId1"/>
          <a:stretch/>
        </p:blipFill>
        <p:spPr>
          <a:xfrm>
            <a:off x="380880" y="4303800"/>
            <a:ext cx="1905120" cy="235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heek_cells2"/>
          <p:cNvPicPr/>
          <p:nvPr/>
        </p:nvPicPr>
        <p:blipFill>
          <a:blip r:embed="rId2"/>
          <a:stretch/>
        </p:blipFill>
        <p:spPr>
          <a:xfrm>
            <a:off x="2743200" y="426708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ute_puppy_picture_T3505"/>
          <p:cNvPicPr/>
          <p:nvPr/>
        </p:nvPicPr>
        <p:blipFill>
          <a:blip r:embed="rId3"/>
          <a:stretch/>
        </p:blipFill>
        <p:spPr>
          <a:xfrm>
            <a:off x="5715000" y="228600"/>
            <a:ext cx="3086280" cy="205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ff_sunflower"/>
          <p:cNvPicPr/>
          <p:nvPr/>
        </p:nvPicPr>
        <p:blipFill>
          <a:blip r:embed="rId4"/>
          <a:stretch/>
        </p:blipFill>
        <p:spPr>
          <a:xfrm>
            <a:off x="7010280" y="2590920"/>
            <a:ext cx="1838520" cy="165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WebGiraffe02"/>
          <p:cNvPicPr/>
          <p:nvPr/>
        </p:nvPicPr>
        <p:blipFill>
          <a:blip r:embed="rId5"/>
          <a:stretch/>
        </p:blipFill>
        <p:spPr>
          <a:xfrm>
            <a:off x="65530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ell"/>
          <p:cNvPicPr/>
          <p:nvPr/>
        </p:nvPicPr>
        <p:blipFill>
          <a:blip r:embed="rId1"/>
          <a:stretch/>
        </p:blipFill>
        <p:spPr>
          <a:xfrm>
            <a:off x="228600" y="1295280"/>
            <a:ext cx="4048200" cy="366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acteriaCell"/>
          <p:cNvPicPr/>
          <p:nvPr/>
        </p:nvPicPr>
        <p:blipFill>
          <a:blip r:embed="rId2"/>
          <a:stretch/>
        </p:blipFill>
        <p:spPr>
          <a:xfrm>
            <a:off x="4724280" y="838080"/>
            <a:ext cx="351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deo: Unicellular organis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chersdomain.org/resources/tdc02/sci/life/stru/singlecell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ell"/>
          <p:cNvPicPr/>
          <p:nvPr/>
        </p:nvPicPr>
        <p:blipFill>
          <a:blip r:embed="rId1"/>
          <a:stretch/>
        </p:blipFill>
        <p:spPr>
          <a:xfrm>
            <a:off x="2548080" y="1595520"/>
            <a:ext cx="4047840" cy="366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nimalcell"/>
          <p:cNvPicPr/>
          <p:nvPr/>
        </p:nvPicPr>
        <p:blipFill>
          <a:blip r:embed="rId2"/>
          <a:stretch/>
        </p:blipFill>
        <p:spPr>
          <a:xfrm>
            <a:off x="609480" y="0"/>
            <a:ext cx="802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plant_cell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nucleus1"/>
          <p:cNvPicPr/>
          <p:nvPr/>
        </p:nvPicPr>
        <p:blipFill>
          <a:blip r:embed="rId1"/>
          <a:stretch/>
        </p:blipFill>
        <p:spPr>
          <a:xfrm>
            <a:off x="228600" y="1523880"/>
            <a:ext cx="360216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266720" y="1600200"/>
            <a:ext cx="4419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what enters and leaves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pcontent.answcdn.com/wikipedia/commons/thumb/7/7c/Eukaryota_cell_strucutre.PNG/250px-Eukaryota_cell_strucutre.PN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304920" y="1600200"/>
            <a:ext cx="4419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cells (and fungi &amp; some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cell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the genetic material of the c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nucleus1"/>
          <p:cNvPicPr/>
          <p:nvPr/>
        </p:nvPicPr>
        <p:blipFill>
          <a:blip r:embed="rId1"/>
          <a:stretch/>
        </p:blipFill>
        <p:spPr>
          <a:xfrm>
            <a:off x="4876920" y="1219320"/>
            <a:ext cx="3681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cell’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nucleus1"/>
          <p:cNvPicPr/>
          <p:nvPr/>
        </p:nvPicPr>
        <p:blipFill>
          <a:blip r:embed="rId1"/>
          <a:stretch/>
        </p:blipFill>
        <p:spPr>
          <a:xfrm>
            <a:off x="4876920" y="1219320"/>
            <a:ext cx="3681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cell – basic unit of all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ribosomes"/>
          <p:cNvPicPr/>
          <p:nvPr/>
        </p:nvPicPr>
        <p:blipFill>
          <a:blip r:embed="rId1"/>
          <a:stretch/>
        </p:blipFill>
        <p:spPr>
          <a:xfrm>
            <a:off x="4876920" y="1295280"/>
            <a:ext cx="3657600" cy="3367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304920" y="1523880"/>
            <a:ext cx="4419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proteins for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oplasmic Reticulum (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nteract07"/>
          <p:cNvPicPr/>
          <p:nvPr/>
        </p:nvPicPr>
        <p:blipFill>
          <a:blip r:embed="rId1"/>
          <a:stretch/>
        </p:blipFill>
        <p:spPr>
          <a:xfrm>
            <a:off x="304920" y="17524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ed membrane that carries material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-59"/>
          <p:cNvPicPr/>
          <p:nvPr/>
        </p:nvPicPr>
        <p:blipFill>
          <a:blip r:embed="rId1"/>
          <a:stretch/>
        </p:blipFill>
        <p:spPr>
          <a:xfrm>
            <a:off x="4800600" y="1371600"/>
            <a:ext cx="4125960" cy="4168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04920" y="1447920"/>
            <a:ext cx="41907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s proteins and ships them around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1447920"/>
            <a:ext cx="37339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glucose to releas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williamsclass.com/SeventhScienceWork/ImagesCells/mitochondria.gif"/>
          <p:cNvPicPr/>
          <p:nvPr/>
        </p:nvPicPr>
        <p:blipFill>
          <a:blip r:embed="rId1"/>
          <a:stretch/>
        </p:blipFill>
        <p:spPr>
          <a:xfrm>
            <a:off x="3957480" y="1600200"/>
            <a:ext cx="4653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hloro"/>
          <p:cNvPicPr/>
          <p:nvPr/>
        </p:nvPicPr>
        <p:blipFill>
          <a:blip r:embed="rId1"/>
          <a:stretch/>
        </p:blipFill>
        <p:spPr>
          <a:xfrm>
            <a:off x="304920" y="1143000"/>
            <a:ext cx="4430520" cy="2362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5029200" y="1447920"/>
            <a:ext cx="38862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cells (and some others, t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mage?id=8038&amp;rendTypeId=4"/>
          <p:cNvPicPr/>
          <p:nvPr/>
        </p:nvPicPr>
        <p:blipFill>
          <a:blip r:embed="rId1"/>
          <a:stretch/>
        </p:blipFill>
        <p:spPr>
          <a:xfrm>
            <a:off x="152280" y="1371600"/>
            <a:ext cx="4264200" cy="341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(larger in plant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food and w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age?id=8038&amp;rendTypeId=4"/>
          <p:cNvPicPr/>
          <p:nvPr/>
        </p:nvPicPr>
        <p:blipFill>
          <a:blip r:embed="rId1"/>
          <a:stretch/>
        </p:blipFill>
        <p:spPr>
          <a:xfrm>
            <a:off x="152280" y="1371600"/>
            <a:ext cx="4264200" cy="3411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 old cel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91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-like flui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organelles and keeps them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www.williamsclass.com/SeventhScienceWork/ImagesCells/cellcytoplasm.jpg"/>
          <p:cNvPicPr/>
          <p:nvPr/>
        </p:nvPicPr>
        <p:blipFill>
          <a:blip r:embed="rId1"/>
          <a:stretch/>
        </p:blipFill>
        <p:spPr>
          <a:xfrm>
            <a:off x="4572000" y="1600200"/>
            <a:ext cx="43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media.wiley.com/assets/8/00/0-7645-5422-0_0101.jpg"/>
          <p:cNvPicPr/>
          <p:nvPr/>
        </p:nvPicPr>
        <p:blipFill>
          <a:blip r:embed="rId1"/>
          <a:stretch/>
        </p:blipFill>
        <p:spPr>
          <a:xfrm>
            <a:off x="2438280" y="-41400"/>
            <a:ext cx="443232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.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Befor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diseases thought to be caused by ma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0880" y="2209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B. After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0880" y="2895480"/>
            <a:ext cx="7848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Robert Hooke – scientist who first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observ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he looked at cork (dead ba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saw geometric compartments and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called them “cel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ork_cells"/>
          <p:cNvPicPr/>
          <p:nvPr/>
        </p:nvPicPr>
        <p:blipFill>
          <a:blip r:embed="rId1"/>
          <a:stretch/>
        </p:blipFill>
        <p:spPr>
          <a:xfrm>
            <a:off x="304920" y="45720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Large image of Robert Hooke's drawing of cork seen through a microscope"/>
          <p:cNvPicPr/>
          <p:nvPr/>
        </p:nvPicPr>
        <p:blipFill>
          <a:blip r:embed="rId2"/>
          <a:stretch/>
        </p:blipFill>
        <p:spPr>
          <a:xfrm>
            <a:off x="1828800" y="228600"/>
            <a:ext cx="4762440" cy="44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ork_100x_PA021953c"/>
          <p:cNvPicPr/>
          <p:nvPr/>
        </p:nvPicPr>
        <p:blipFill>
          <a:blip r:embed="rId3"/>
          <a:stretch/>
        </p:blipFill>
        <p:spPr>
          <a:xfrm>
            <a:off x="6248520" y="4572000"/>
            <a:ext cx="26668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I. 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ll organisms are composed of one or mor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The cell is the basic unit of structure and organization in all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ll cells come from preexisting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II. 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compound light microscope – uses light and a series of lenses to magnify objects in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up to 1500X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38-microscopes-lg"/>
          <p:cNvPicPr/>
          <p:nvPr/>
        </p:nvPicPr>
        <p:blipFill>
          <a:blip r:embed="rId1"/>
          <a:stretch/>
        </p:blipFill>
        <p:spPr>
          <a:xfrm>
            <a:off x="6400800" y="2571840"/>
            <a:ext cx="2438280" cy="428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OnionEpidermis"/>
          <p:cNvPicPr/>
          <p:nvPr/>
        </p:nvPicPr>
        <p:blipFill>
          <a:blip r:embed="rId2"/>
          <a:stretch/>
        </p:blipFill>
        <p:spPr>
          <a:xfrm>
            <a:off x="228600" y="3886200"/>
            <a:ext cx="266688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aurelia"/>
          <p:cNvPicPr/>
          <p:nvPr/>
        </p:nvPicPr>
        <p:blipFill>
          <a:blip r:embed="rId3"/>
          <a:stretch/>
        </p:blipFill>
        <p:spPr>
          <a:xfrm>
            <a:off x="3352680" y="4038480"/>
            <a:ext cx="27432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II. Microscop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lectron microscope – uses a beam of electrons to magnify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up to 500,000X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3D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view structures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lectron-microscope-halina"/>
          <p:cNvPicPr/>
          <p:nvPr/>
        </p:nvPicPr>
        <p:blipFill>
          <a:blip r:embed="rId1"/>
          <a:stretch/>
        </p:blipFill>
        <p:spPr>
          <a:xfrm>
            <a:off x="6019920" y="3124080"/>
            <a:ext cx="28573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icture 5"/>
          <p:cNvSpPr/>
          <p:nvPr/>
        </p:nvSpPr>
        <p:spPr>
          <a:xfrm>
            <a:off x="4952880" y="228600"/>
            <a:ext cx="38102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SEM snail lung"/>
          <p:cNvPicPr/>
          <p:nvPr/>
        </p:nvPicPr>
        <p:blipFill>
          <a:blip r:embed="rId1"/>
          <a:stretch/>
        </p:blipFill>
        <p:spPr>
          <a:xfrm>
            <a:off x="457200" y="3733920"/>
            <a:ext cx="3124080" cy="252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SEM fishgills"/>
          <p:cNvPicPr/>
          <p:nvPr/>
        </p:nvPicPr>
        <p:blipFill>
          <a:blip r:embed="rId2"/>
          <a:stretch/>
        </p:blipFill>
        <p:spPr>
          <a:xfrm>
            <a:off x="4952880" y="3581280"/>
            <a:ext cx="3819600" cy="288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tartigrado.com/Tartigrado/images/tardigrade.jpg"/>
          <p:cNvPicPr/>
          <p:nvPr/>
        </p:nvPicPr>
        <p:blipFill>
          <a:blip r:embed="rId3"/>
          <a:stretch/>
        </p:blipFill>
        <p:spPr>
          <a:xfrm>
            <a:off x="2514600" y="304920"/>
            <a:ext cx="29718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V.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kary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have no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have no membrane-bou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ex. bacteria; called “prokaryot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cteria"/>
          <p:cNvPicPr/>
          <p:nvPr/>
        </p:nvPicPr>
        <p:blipFill>
          <a:blip r:embed="rId1"/>
          <a:stretch/>
        </p:blipFill>
        <p:spPr>
          <a:xfrm>
            <a:off x="533520" y="4191120"/>
            <a:ext cx="2647800" cy="2228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colism"/>
          <p:cNvPicPr/>
          <p:nvPr/>
        </p:nvPicPr>
        <p:blipFill>
          <a:blip r:embed="rId2"/>
          <a:stretch/>
        </p:blipFill>
        <p:spPr>
          <a:xfrm>
            <a:off x="6019920" y="3886200"/>
            <a:ext cx="2743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2:25:51Z</dcterms:created>
  <dc:creator>Mariel</dc:creator>
  <dc:description/>
  <dc:language>en-US</dc:language>
  <cp:lastModifiedBy>Teacher</cp:lastModifiedBy>
  <dcterms:modified xsi:type="dcterms:W3CDTF">2010-09-14T18:02:15Z</dcterms:modified>
  <cp:revision>13</cp:revision>
  <dc:subject/>
  <dc:title>Cells</dc:title>
</cp:coreProperties>
</file>